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D9E6A-7FC9-4A99-929C-56355766D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94C84-C7EB-4FB8-8E97-431C197B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FF996-4D4A-4536-B6F7-C4E5CCEC6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B3993-4515-4D2C-9AB0-E190E8EDF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1598-3DC5-440D-ACEB-DE95E1960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67B2-37F8-488A-9DFE-2A4752C1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2B4A-42A8-496F-BE8B-39E49605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011D-AE51-42B1-B4F0-A502AA8B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ACA4-2A0B-4B66-8170-1D1D690E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D4A6-0EE4-4EE6-84DB-725A773D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B99E-E36C-4015-8E2A-83D13B3C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AAD59-8636-4286-B04B-BFCE19A7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6FE5-1D4E-4321-8C55-D2BAA640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2D23-5BE3-4FDF-87A2-5AEB979E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2006-8BCB-4A5E-9445-3E8AA06D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9001-23B7-44D1-BD79-4FFC8845D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AEDB-F01E-4547-A4F9-8BBFD9EFC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74A2A-CC4F-4CC8-A5DB-695F8563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E7B40-16F7-46EF-A8D3-4D2E846B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9048F-80CE-4119-A2C9-4F84118E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9355B-14EB-432D-A2BB-A3D7E006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944CA-7BC3-4A35-B45F-5100A1E8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CA2C2-420B-40F6-9B37-6FB29E5A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737B8-24FF-4AD7-8508-0D54CBDE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EEAA-EECD-42C7-9E86-F35186DD475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9462-46FA-49F4-BD13-7DA0574DFAFB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dfdef6"/>
                </a:solidFill>
                <a:latin typeface="Arial"/>
              </a:rPr>
              <a:t>Közösségi hálózatok  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684360" y="1844640"/>
            <a:ext cx="79912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ffffff"/>
                </a:solidFill>
                <a:uFillTx/>
                <a:latin typeface="Arial"/>
              </a:rPr>
              <a:t>A "közösségi hálózat" fogalma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olyan hálózatot jelent, melynek tagjai kapcsolatba léphetnek, kommunikálhatnak egymáss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olyan embereket "szolgál ki", akiket közös érdeklődési körük köt össsz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eletartozhatnak a fogalomba a fórumok, a videómegosztók, akár az azonnali üzenetküldő szolgáltatások is.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578800" cy="56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közösségi hálózatok felépítése, működ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felhasználó felvétele a hálózatba rendszerint egy űrlap kitöltésével kezdődi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ényképek feltöltése a profiloldal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profil kinézetét is teljesen kedvünkre alakíthatjuk, beépített sablonok vagy alapvető web-szerkesztési ismeretek segítségéve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profiloldalak nyilvánossága szolgáltatónként változi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van, ahol csak regisztrált tagok léphetnek be az oldal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nyilvános, de be lehet állítani, hogy ki láthatja a profilunkat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gy kapcsolat "hitelesítéséhez" kétoldalú visszajelzés szükség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legtöbb közösségi hálózat biztosít privát üzenetküldési lehetőséget, valamint nyilvános üzenő falat 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éhány példa Magyarországról és a nagyvilágbó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wi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2002-ben indult a legismertebb magyar közösségi oldal, a wiw (who is who), az iwiw nevet 2005-ben vette fel. A rendszer meghívásos alapon működik és zárt, tehát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enki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nem láthatja a profilokat, aki nem tag. Létrehozhatjuk saját profilunkat, kereshetünk ismerősök és ismeretlenek között egyaránt, van benne privát üzenetküldés és üzenőfal 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yVI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másik nagy magyar közösségi oldal. 2006-ban indult, szintén meghívásos alapú. A korlátlan meghívóküldés és képfeltöltés teszi vonzóvá a felhasználók köréb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b0a25"/>
                </a:solidFill>
                <a:latin typeface="Arial"/>
              </a:rPr>
              <a:t>Myspa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2003-ban, Californiában indult. Elindult az oldal népszerű zenei része, ahol a zenekarok speciális profilt hozhatnak létre. Zene- és videómegosztó 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Facebook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Facebook 2004-ben a Harvard Egyetem zárt hálózataként indult. A csatlakozás 2005-től mindenki számára lehetségessé vált. Az oldal különlegességét az úgynevezett minialkalmazások  jelentik, melyeket bárki szabadon építhet, módosíthat, bővítve ezzel a profilok tartalmá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Előnyö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Új kapcsolatokra tehetünk sze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Segít az embereknek munkaválasztásb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Összehozza a közös érdeklődéssel rendelkező emberek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Azok számára, akik nehezen fejezik ki magukat személyese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nagyobb komfortérzetet 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Hátrányo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Online kapcsolatok a személyes találkozások helyet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üggőséget okozna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Káros hatással vannak az egyéniségünk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felhasználók egy része nem az akinek mondja magát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személyes információk sebezhetővé tesznek mink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6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738760" cy="1152720"/>
          </a:xfrm>
          <a:prstGeom prst="rect">
            <a:avLst/>
          </a:prstGeom>
          <a:ln w="0">
            <a:noFill/>
          </a:ln>
        </p:spPr>
      </p:pic>
      <p:sp>
        <p:nvSpPr>
          <p:cNvPr id="520" name="BlokTextu 8"/>
          <p:cNvSpPr/>
          <p:nvPr/>
        </p:nvSpPr>
        <p:spPr>
          <a:xfrm>
            <a:off x="539640" y="40464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ilyen tevékenységeket milyen rendszerességgel végez a közösségi portálok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Graf 11" descr=""/>
          <p:cNvPicPr/>
          <p:nvPr/>
        </p:nvPicPr>
        <p:blipFill>
          <a:blip r:embed="rId2"/>
          <a:stretch/>
        </p:blipFill>
        <p:spPr>
          <a:xfrm>
            <a:off x="1616040" y="3786120"/>
            <a:ext cx="5570640" cy="2730600"/>
          </a:xfrm>
          <a:prstGeom prst="rect">
            <a:avLst/>
          </a:prstGeom>
          <a:ln w="0">
            <a:noFill/>
          </a:ln>
        </p:spPr>
      </p:pic>
      <p:sp>
        <p:nvSpPr>
          <p:cNvPr id="522" name="BlokTextu 12"/>
          <p:cNvSpPr/>
          <p:nvPr/>
        </p:nvSpPr>
        <p:spPr>
          <a:xfrm>
            <a:off x="539640" y="2781360"/>
            <a:ext cx="71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Az alábbiak közül mely közösségi portálo(ko)n van regisztrálv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57200" y="404280"/>
            <a:ext cx="822960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it gondol az alábbi állításról? "Szükség lenne a közösségi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ortálok üzenőfalain moderátorra, aki figyelemmel kíséri és törli az oda nem tartozó üzenetek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Graf 5" descr=""/>
          <p:cNvPicPr/>
          <p:nvPr/>
        </p:nvPicPr>
        <p:blipFill>
          <a:blip r:embed="rId3"/>
          <a:stretch/>
        </p:blipFill>
        <p:spPr>
          <a:xfrm>
            <a:off x="2262240" y="1481040"/>
            <a:ext cx="4619520" cy="2457720"/>
          </a:xfrm>
          <a:prstGeom prst="rect">
            <a:avLst/>
          </a:prstGeom>
          <a:ln w="0">
            <a:noFill/>
          </a:ln>
        </p:spPr>
      </p:pic>
      <p:sp>
        <p:nvSpPr>
          <p:cNvPr id="525" name="BlokTextu 3"/>
          <p:cNvSpPr/>
          <p:nvPr/>
        </p:nvSpPr>
        <p:spPr>
          <a:xfrm>
            <a:off x="900000" y="414972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nnyire tartja szükségesnek a személyességi adatok védelmé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Graf 6" descr=""/>
          <p:cNvPicPr/>
          <p:nvPr/>
        </p:nvPicPr>
        <p:blipFill>
          <a:blip r:embed="rId4"/>
          <a:stretch/>
        </p:blipFill>
        <p:spPr>
          <a:xfrm>
            <a:off x="2189160" y="4645080"/>
            <a:ext cx="46926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457200" y="33300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Graf 3" descr=""/>
          <p:cNvPicPr/>
          <p:nvPr/>
        </p:nvPicPr>
        <p:blipFill>
          <a:blip r:embed="rId6"/>
          <a:stretch/>
        </p:blipFill>
        <p:spPr>
          <a:xfrm>
            <a:off x="1542960" y="1335240"/>
            <a:ext cx="6058080" cy="3322440"/>
          </a:xfrm>
          <a:prstGeom prst="rect">
            <a:avLst/>
          </a:prstGeom>
          <a:ln w="0">
            <a:noFill/>
          </a:ln>
        </p:spPr>
      </p:pic>
      <p:sp>
        <p:nvSpPr>
          <p:cNvPr id="529" name="BlokTextu 5"/>
          <p:cNvSpPr/>
          <p:nvPr/>
        </p:nvSpPr>
        <p:spPr>
          <a:xfrm>
            <a:off x="900000" y="69228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ilyen rendszerességgel használja az internetet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457200" y="476280"/>
            <a:ext cx="8229600" cy="56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Kért már bármilyen segítséget valamely közösségi portál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Graf 3" descr=""/>
          <p:cNvPicPr/>
          <p:nvPr/>
        </p:nvPicPr>
        <p:blipFill>
          <a:blip r:embed="rId3"/>
          <a:stretch/>
        </p:blipFill>
        <p:spPr>
          <a:xfrm>
            <a:off x="1828800" y="974880"/>
            <a:ext cx="4906800" cy="2457360"/>
          </a:xfrm>
          <a:prstGeom prst="rect">
            <a:avLst/>
          </a:prstGeom>
          <a:ln w="0">
            <a:noFill/>
          </a:ln>
        </p:spPr>
      </p:pic>
      <p:sp>
        <p:nvSpPr>
          <p:cNvPr id="532" name="BlokTextu 4"/>
          <p:cNvSpPr/>
          <p:nvPr/>
        </p:nvSpPr>
        <p:spPr>
          <a:xfrm>
            <a:off x="395280" y="35002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smerősei közül mennyivel tartja rendszeresen a kapcsolato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Graf 6" descr=""/>
          <p:cNvPicPr/>
          <p:nvPr/>
        </p:nvPicPr>
        <p:blipFill>
          <a:blip r:embed="rId4"/>
          <a:stretch/>
        </p:blipFill>
        <p:spPr>
          <a:xfrm>
            <a:off x="0" y="0"/>
            <a:ext cx="6559560" cy="66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Arial"/>
              </a:rPr>
              <a:t>Köszönöm a figyelmet!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6:42:34Z</dcterms:created>
  <dc:creator>Tünde</dc:creator>
  <dc:description/>
  <dc:language>en-US</dc:language>
  <cp:lastModifiedBy>Magyar</cp:lastModifiedBy>
  <dcterms:modified xsi:type="dcterms:W3CDTF">2013-04-10T13:04:33Z</dcterms:modified>
  <cp:revision>25</cp:revision>
  <dc:subject/>
  <dc:title>Közösségi háló – Sociálna sieť - Social Network</dc:title>
</cp:coreProperties>
</file>